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DF7C-3435-44E1-854A-99E3044D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91DF-EBEB-427C-8084-58B4C10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2A6-69C2-4430-BCC2-AC8C54CC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EFC-062A-41E4-86C6-34092AA6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F1B0-971B-4688-9B6F-8ED2D873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2F87-FCD6-4F79-96AA-9A8C6D6C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30B6-C597-429B-8E5D-D55112B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173-8921-40DB-98D3-2CC2AB3C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8070-66A0-455E-AB07-0F742A8A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D63D-871B-4FC0-AABB-5864EBD3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8188-4508-407A-A341-CFB405A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8EA6-64F9-42D4-BAA7-72623C90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EB74-0B97-43B9-A669-FDF7752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5098-ED79-44EF-8698-00704EA3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0B08-0F64-47B5-BF02-1DF7F07E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C5DA-FF10-4DBC-AB9F-B9EE7C4F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2D03-FD57-4567-9679-3ADF0AE0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7D4-A120-4408-B2FB-F90D77CD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897-7130-480D-9248-CDA73CDA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662A-88E8-4461-A3C8-382D8DF6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C95-A9E2-4A59-B717-3D71B46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6EF-7EED-48E0-BFB6-9E3939C3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CE7-5679-4FEE-86F2-216CBE63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5A3-C25D-4687-8C77-02F09CD9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5B1-1BDD-449A-8F91-2D78ED9A59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CE8-36EE-481E-A67B-E0422CBC54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ELCOME TO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4" descr="DSCN0163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4935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s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units and estimation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I unit =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kil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mass of a textbook or a bri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gram (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.001 kg (mass of a small paper cl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milligram (m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.000001 kg (or .001 g) (mass of a few grains of salt- many medicine doses are m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microgram (</a:t>
            </a:r>
            <a:r>
              <a:rPr b="0" lang="el-GR" sz="3200" spc="-1" strike="noStrike">
                <a:solidFill>
                  <a:srgbClr val="ff0113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  <a:ea typeface="Arial"/>
              </a:rPr>
              <a:t>g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or .000000001 kg (.000001 g or .001 mg) mass of a grain of talcum pow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space an object take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ter (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lliliter (m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ost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l is the same as a cube 1 cm on a side (1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cubic cm, c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1000 ml to 1 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L = 1000 ml or 1 ml = .001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≈ 1 quart (1 gallon ≈ 3.8L or 4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 ml = 20 drops, 1 teaspoon = 5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volume image"/>
          <p:cNvPicPr/>
          <p:nvPr/>
        </p:nvPicPr>
        <p:blipFill>
          <a:blip r:embed="rId1"/>
          <a:stretch/>
        </p:blipFill>
        <p:spPr>
          <a:xfrm>
            <a:off x="7315200" y="2286000"/>
            <a:ext cx="16225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olume estim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htub holds about 200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car’s gas tank holds about 50-80 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medicine dropper holds 5 – 1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ffee mug holds about 400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ng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unit = me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widely used are km, cm, mm,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 and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00 m = 1 km or 1 m = .001 (1/1000)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0 cm = 1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0 mm = 1 cm  and that mean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m = 1000 mm (or 1 mm = 0.1 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length image"/>
          <p:cNvPicPr/>
          <p:nvPr/>
        </p:nvPicPr>
        <p:blipFill>
          <a:blip r:embed="rId1"/>
          <a:stretch/>
        </p:blipFill>
        <p:spPr>
          <a:xfrm>
            <a:off x="6838920" y="2819520"/>
            <a:ext cx="23050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ength Estima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km is about  2/3 mile (WHS to Wawa on Bethlehem Pik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orframe = 2 m (a very tall per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iling in school is about 3 m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cm is about the width of a fi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m is about the thickness of a d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re there about 10 dimes to a finger? (y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 = size of bacterium (micr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 = molecules sizes, picometer (pm) atomic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mpera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” unit = Kelvin (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dely used for measurement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grees Celsius (º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emp in Kelvin = ºC + 273 (º C = K -27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ice water = 0 ºC = 273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iling water = 100 ºC  = 373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dy temp = 37 ºC  = 310 K (about 99 ºF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offee or tea = 85 ºC  = 35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idge = 4 ºC  = 277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y cold day = -15 ºC = 258 K  (about 5 º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 (unit first, then number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this hall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of a qu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of a “half gallon” milk car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of a small cup of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ight of a desktop at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a dollar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ss of a person – about 70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ength of this hallway – about 2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ss of a quarter – about 10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oom temperature – about 20-25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ºC (293-298 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olume of a “half gallon” milk carton- about 2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olume of a small cup of juice – about 250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eight of a desktop at school – about 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ength of a dollar bill – 15 cm (almost exact) (note that this = 6 inches, so you always have a 6 inch or 15 cm ruler with you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me Conversions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the factor label method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system and you won’t have to guess do I multiply or divide? Or which way should I move the decimal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You must know the basic metric prefi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kilo, deci, centi, milli, mic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 non metric 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inutes is 450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need to know the relationship 1 min= 60 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8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ctor Label Example #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what you are given: 450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known “factor” (known relationsh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units cancel to give you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0 seconds  1 minute     = 7.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seco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is to make the unit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990720" y="40384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200400" y="350532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905120" y="3429000"/>
            <a:ext cx="1066680" cy="6094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3962520" y="3962520"/>
            <a:ext cx="1066680" cy="6094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4495680" y="42670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2209680" y="4114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 Chemistr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Picture 4" descr="indicators"/>
          <p:cNvPicPr/>
          <p:nvPr/>
        </p:nvPicPr>
        <p:blipFill>
          <a:blip r:embed="rId1"/>
          <a:stretch/>
        </p:blipFill>
        <p:spPr>
          <a:xfrm>
            <a:off x="228600" y="914400"/>
            <a:ext cx="8458200" cy="5649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304920" y="990720"/>
            <a:ext cx="883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y of matter and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ter= all the “stuff”- anything that has mass or takes up 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=what lets us do work (move things)- this includes light, sound, h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thing is either matter or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fore…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is all chemist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the “central science”) no matter what they told you in biolog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145 cm to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know that there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cm to 1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5 cm 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   1.45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00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o see that the units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units work, the numbers will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4 m = how many mm (knowing1m=1000m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4 m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000 m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7400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1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57200" y="2971800"/>
            <a:ext cx="3581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752480" y="251460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457200" y="5867280"/>
            <a:ext cx="3505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1752480" y="5334120"/>
            <a:ext cx="0" cy="9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458 mg to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to know that 1 g = 1000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know what goes on top and bott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 units cancel! (the fac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8 mg     1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= 0.458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g (the unit we w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533520" y="4952880"/>
            <a:ext cx="281916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2057400" y="4495680"/>
            <a:ext cx="0" cy="9907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2971800" y="5029200"/>
            <a:ext cx="1066680" cy="60948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1143000" y="4495680"/>
            <a:ext cx="1066680" cy="60984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 more involved one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non-SI units are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not</a:t>
            </a:r>
            <a:r>
              <a:rPr b="0" lang="en-US" sz="4000" spc="-1" strike="noStrike" u="sng">
                <a:solidFill>
                  <a:srgbClr val="b2b2b2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your responsibi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cm are in 2 mi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1 mile = 5280 feet, 1 foot = 12 inches and 1 inch = 2.54 cm (these would be giv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y: mil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e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he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les   5280 feet  12 in   2 .54 cm = 321869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mile      1 ft         1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0" y="4495680"/>
            <a:ext cx="6477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1523880" y="38862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3581280" y="3962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4724280" y="39625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457200" y="3733920"/>
            <a:ext cx="838080" cy="9144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2133720" y="4343400"/>
            <a:ext cx="838080" cy="9144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4114440" y="3886200"/>
            <a:ext cx="609480" cy="457200"/>
          </a:xfrm>
          <a:prstGeom prst="line">
            <a:avLst/>
          </a:prstGeom>
          <a:ln w="28440">
            <a:solidFill>
              <a:srgbClr val="ff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609480" y="3886200"/>
            <a:ext cx="838440" cy="91440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H="1">
            <a:off x="5410080" y="4572000"/>
            <a:ext cx="609840" cy="457200"/>
          </a:xfrm>
          <a:prstGeom prst="line">
            <a:avLst/>
          </a:prstGeom>
          <a:ln w="28440">
            <a:solidFill>
              <a:srgbClr val="ff01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2666880" y="4114800"/>
            <a:ext cx="9144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>
            <a:off x="3886200" y="4724280"/>
            <a:ext cx="9144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457200" y="5562720"/>
            <a:ext cx="8458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c6"/>
                </a:solidFill>
                <a:latin typeface="Arial"/>
              </a:rPr>
              <a:t>You have to practice a bunch of these to get good at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ec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afec6"/>
                </a:solidFill>
                <a:latin typeface="Arial"/>
              </a:rPr>
              <a:t>(and you will get good at th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lly Complex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a speed of 35 miles/hour to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: 5280 ft = 1 mile, 1 ft = 12 in, 1 in = 2.54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ponsibility 100 cm = 1m (SI uni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miles   1 hour    1 min    5280 ft   12 in  2.54 cm  1 m 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hr        60 min   60 sec   1 mile     1 ft      1 in      100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6 m/s (we’ll learn how to handle the number of digits 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“punch it in” (follow on board for examp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go do some for practice! (you need to really know the SI un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228600" y="4495680"/>
            <a:ext cx="7696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523880" y="4114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6880" y="40384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886200" y="40384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5029200" y="40384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5867280" y="4114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7086600" y="4114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Few for You to 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6.7 cm to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9.73 mg to 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14675 cm to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8.75 kg to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4500 cg to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-up For Solv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7 cm    1 m     =  0.067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9.73 mg   1 cg    = 0.973 c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0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113"/>
                </a:solidFill>
                <a:latin typeface="Arial"/>
              </a:rPr>
              <a:t>14675 cm    1 m        1 km       = 0.14675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113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0113"/>
                </a:solidFill>
                <a:latin typeface="Arial"/>
              </a:rPr>
              <a:t>100 cm  1000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8.75 kg     1000 g      1000 mg   = 8750000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1 kg          1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500 cg     1 g             1 Mg      = 0.000045 M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 cg     1000000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609480" y="1752480"/>
            <a:ext cx="2438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09480" y="2743200"/>
            <a:ext cx="2667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609480" y="3657600"/>
            <a:ext cx="45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09480" y="4648320"/>
            <a:ext cx="487692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533520" y="5562720"/>
            <a:ext cx="487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1752480" y="1295280"/>
            <a:ext cx="0" cy="83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1981080" y="2286000"/>
            <a:ext cx="0" cy="76212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2286000" y="320040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3733920" y="320040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2057400" y="4191120"/>
            <a:ext cx="0" cy="7617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3733920" y="4191120"/>
            <a:ext cx="0" cy="76176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2057400" y="5181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3581280" y="51814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ientific (Exponential) No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y useful way to describe small and large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s are written as the product of some number from 1.0 to 9.99 x 10 to a power (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form of a x 10</a:t>
            </a:r>
            <a:r>
              <a:rPr b="0" lang="en-US" sz="3200" spc="-1" strike="noStrike" baseline="30000">
                <a:solidFill>
                  <a:srgbClr val="ff0113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(note + exponent = &gt; 1 and – exponent = &lt;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5 = 3.2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076 = 7.6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987.07 = 7.98707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586728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actice/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98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8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87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6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76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8700000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0891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6.3 =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8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98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09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7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6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91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63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000000048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7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98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90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700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854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0.98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99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00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2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6.4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7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0015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7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07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ns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7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0678           0.988 = 9.88 x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9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90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387000 =3.87 x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854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0.0018543          450.98 = 4.509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99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99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5.00 = 5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2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23000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56.4 = 3.56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7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077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0.00156 = 1.5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7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78000000         0.076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anches of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Analytical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wers questions about composition (what is the level of lead in that drinking water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ysical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s with energy transfers in chemical processes (how much energy is stored in a batter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Bio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s with the analysis of chemical processes in living things (cellular process such as photosynthesis and respi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Organic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of carbon containing molecules (overlap with bioc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Inorganic 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of the chemistry of nonliving things (geological chemistry, the analysis of the rate of corrosion of meta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reas overlap (geochemistry)  as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branches might be involved in developing a dye for cloth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ying in scientific No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rule: (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a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(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ff0113"/>
                </a:solidFill>
                <a:latin typeface="Arial"/>
              </a:rPr>
              <a:t>+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ultiply the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ront pa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add the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(4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2 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(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(6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30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ops the “front” is &gt;9.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30 into 3 (down 1 exponent) and add 1 to the exponent to compensate = 3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calculator: 5 EE (or EXP) 5 x 6 EE (or EXP) 3 = and you’ll see                  . You “translate” into 3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Note you don’t punch in x 10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 (times ten to the) (EE or EXP replaces th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how to use your calculat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362320" y="4267080"/>
            <a:ext cx="1295280" cy="38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         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indefinite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viding in Scientific No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logic as multiplying excep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divide the front parts and subtract the expon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(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= 5</a:t>
            </a:r>
            <a:r>
              <a:rPr b="0" lang="en-US" sz="3200" spc="-1" strike="noStrike">
                <a:solidFill>
                  <a:srgbClr val="ff0113"/>
                </a:solidFill>
                <a:latin typeface="Arial"/>
              </a:rPr>
              <a:t>/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10</a:t>
            </a:r>
            <a:r>
              <a:rPr b="0" lang="en-US" sz="3200" spc="-1" strike="noStrike" baseline="30000">
                <a:solidFill>
                  <a:srgbClr val="ffcc66"/>
                </a:solidFill>
                <a:latin typeface="Arial"/>
              </a:rPr>
              <a:t>(4-5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2.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hich is also 0.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(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/(8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= 0.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op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0.5 into 5 (up 1 place) and compensate by making the exponent 1 less (5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(which = 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n Your Calculat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(4 x 10</a:t>
            </a:r>
            <a:r>
              <a:rPr b="0" lang="en-US" sz="4000" spc="-1" strike="noStrike" baseline="30000">
                <a:solidFill>
                  <a:srgbClr val="b2b2b2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)/(8 x 10</a:t>
            </a:r>
            <a:r>
              <a:rPr b="0" lang="en-US" sz="4000" spc="-1" strike="noStrike" baseline="30000">
                <a:solidFill>
                  <a:srgbClr val="b2b2b2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is problem you’d punch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E and EXP buttons do the same – you’ve got one of them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EE 4 and you’ll se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 (divided b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EE 2 = and you’ll 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r you’re calculator may turn it into 5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your calculator do? Get familiar with it and you’ll know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4648320" y="3124080"/>
            <a:ext cx="175248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          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019920" y="4038480"/>
            <a:ext cx="175248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   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easurements are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measurement you make you can include all numbers that are known plus one additional estimated num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car speedometer you can say you are going 62 mph (you know it is 60-something for sure and the 2 is a good estimate (but you wouldn’t be shocked if you were really going 61 or 6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’t go more places than that (62.37 may sound better but that’s all it do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 Figs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nonzero numbers are significant (1,2…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es between nonzero numbers are significant (the “0” in 40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most zeroes are never significant (as in 0.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most zeroes are significan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decimal point is present (as in 8.9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lies to measured numbers (not counted (12 eggs to a dozen) or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don’t have measurement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eneral, you can have one more digit (the estimated one) than your measuring device is marked off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ne estimated dig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7" name="Picture 4" descr="DSCN0166"/>
          <p:cNvPicPr/>
          <p:nvPr/>
        </p:nvPicPr>
        <p:blipFill>
          <a:blip r:embed="rId1"/>
          <a:stretch/>
        </p:blipFill>
        <p:spPr>
          <a:xfrm>
            <a:off x="1219320" y="1905120"/>
            <a:ext cx="3581280" cy="2689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DSCN0167"/>
          <p:cNvPicPr/>
          <p:nvPr/>
        </p:nvPicPr>
        <p:blipFill>
          <a:blip r:embed="rId2"/>
          <a:stretch/>
        </p:blipFill>
        <p:spPr>
          <a:xfrm>
            <a:off x="5257800" y="19051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9"/>
          <p:cNvSpPr/>
          <p:nvPr/>
        </p:nvSpPr>
        <p:spPr>
          <a:xfrm>
            <a:off x="1063080" y="4572000"/>
            <a:ext cx="40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arked of to the nearest who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umber- estimated to 1 decim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lace. It is definite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38 point something (the “6”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 good estimate and is truste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5257800" y="457200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arked of to the nearest tenths place- estimated to 2 decimal  places. It is definitely 38.5 something (the 7 is a good estimate and is truste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 figs cont’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698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has 3 significant figures (shown in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0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87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has 4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9.9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l has 5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000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g has has 1 significant fig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m has 4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  cms has has 1 significant fig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m/s has 5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.00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879098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g/ml has 9 significant fig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9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0000 cm has 3 significant fig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113"/>
                </a:solidFill>
                <a:latin typeface="Arial"/>
              </a:rPr>
              <a:t>The word significant doesn’t mean important- it means measured and tru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5105520" y="3962520"/>
            <a:ext cx="28191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486400" y="3505320"/>
            <a:ext cx="22860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90 is not 90.00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08120" y="380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4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9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4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o 90 and 90.000 are </a:t>
            </a:r>
            <a:r>
              <a:rPr b="1" lang="en-US" sz="4000" spc="-1" strike="noStrike" u="sng">
                <a:solidFill>
                  <a:srgbClr val="ff0113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the sam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ematically they are eq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weigh a coin on two balances one capable of reading to the nearest g and one to the thousandth of a gram, they could both read 90 g (one would say 90 and the other 90.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ne that reads to a milligram (thousandth) lets me get more “precis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atch the demo of graduated cylinders and of the marked measuring sti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Using Sig Figs in Calculations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multiply/divide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multiply or divide your answer can have no more sig figs than the least precise part of your problem (round as you normally woul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489.5 x 3.00 = 1468.5 (can only ha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you’d round to 1470 (3 sig fi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ooks like you’re losing accuracy but you’re not. You are making your answer reflect the measurements that went into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523880" y="3352680"/>
            <a:ext cx="914400" cy="38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 sig fi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743200" y="3352680"/>
            <a:ext cx="914400" cy="38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 sig fi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105520" y="3352680"/>
            <a:ext cx="228600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 sig figs (limited b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The least precise p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Using Sig Figs in Calculations (add/subtract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you are limited by the number of decimal pla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5.9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 pl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7.8     (1 pl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13.8 (13.79 rounded to 1 decimal place) (1 decimal place limits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219320" y="380988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 flipV="1">
            <a:off x="2286000" y="2666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ure and Applied Chemist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Chemistry- Pursuit of chemical knowledge for its own sake. (studying it because you want 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Ny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ed Chemistry- research directed to a practical goal o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researching the commercial use of nyl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 Fig Calculation Practi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64 x 3.877 = 21.9 (21.866... rounded to 3 sig fi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999 + 1.2 = 6.2 (6.199 rounded to 1 decimal place (add/subtract has diferent r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.77 + 8.2)/6.88 = 13.0/6.88 = 1.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.1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(1.677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= 6.9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69000 (not 68765.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113"/>
                </a:solidFill>
                <a:latin typeface="Arial"/>
              </a:rPr>
              <a:t>Extra digits look good but they aren’t worth m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0" dur="2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= “correctnes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ion = consistency of a set of measurements (1 measurement is not prec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 Goal ex: If you are always wide to the right, you are precise (consistent) but not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tch that is always fast by 5 minutes is precise, but not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2" name="Picture 4" descr="accuracy precision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rap-Up of Unit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stuff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used to your calculator. Bring it to class daily and practice with the calculator you’ll use on the t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study hint- use the “chapter study guide” sheet as a checklist. There will be notes, homework and practice on just about everything. Ask questions if needed. Come in and get help. It is chemis</a:t>
            </a:r>
            <a:r>
              <a:rPr b="1" lang="en-US" sz="3200" spc="-1" strike="noStrike">
                <a:solidFill>
                  <a:srgbClr val="ff0113"/>
                </a:solidFill>
                <a:latin typeface="Arial"/>
              </a:rPr>
              <a:t>t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croscopic vs Microscop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copic- objects large enough to see with an unaided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copic – objects that could only be seen with an aided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Quick review of scientific metho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Observa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055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466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05520" y="46699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Scientific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962520" y="3124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2" descr="j0305257"/>
          <p:cNvPicPr/>
          <p:nvPr/>
        </p:nvPicPr>
        <p:blipFill>
          <a:blip r:embed="rId1"/>
          <a:stretch/>
        </p:blipFill>
        <p:spPr>
          <a:xfrm>
            <a:off x="0" y="190512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MCj02958040000[1]"/>
          <p:cNvPicPr/>
          <p:nvPr/>
        </p:nvPicPr>
        <p:blipFill>
          <a:blip r:embed="rId2"/>
          <a:stretch/>
        </p:blipFill>
        <p:spPr>
          <a:xfrm>
            <a:off x="1447920" y="1981080"/>
            <a:ext cx="1600200" cy="1500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MCj02344820000[1]"/>
          <p:cNvPicPr/>
          <p:nvPr/>
        </p:nvPicPr>
        <p:blipFill>
          <a:blip r:embed="rId3"/>
          <a:stretch/>
        </p:blipFill>
        <p:spPr>
          <a:xfrm>
            <a:off x="533520" y="5105520"/>
            <a:ext cx="1904760" cy="1525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MPj03901310000[1]"/>
          <p:cNvPicPr/>
          <p:nvPr/>
        </p:nvPicPr>
        <p:blipFill>
          <a:blip r:embed="rId4"/>
          <a:stretch/>
        </p:blipFill>
        <p:spPr>
          <a:xfrm>
            <a:off x="2590920" y="4267080"/>
            <a:ext cx="1685880" cy="236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MPj04003790000[1]"/>
          <p:cNvPicPr/>
          <p:nvPr/>
        </p:nvPicPr>
        <p:blipFill>
          <a:blip r:embed="rId5"/>
          <a:stretch/>
        </p:blipFill>
        <p:spPr>
          <a:xfrm>
            <a:off x="6248520" y="15238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MCj03010660000[1]"/>
          <p:cNvPicPr/>
          <p:nvPr/>
        </p:nvPicPr>
        <p:blipFill>
          <a:blip r:embed="rId6"/>
          <a:stretch/>
        </p:blipFill>
        <p:spPr>
          <a:xfrm>
            <a:off x="7238880" y="5181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Line 23"/>
          <p:cNvSpPr/>
          <p:nvPr/>
        </p:nvSpPr>
        <p:spPr>
          <a:xfrm>
            <a:off x="4267080" y="5791320"/>
            <a:ext cx="28958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666880" y="1676520"/>
            <a:ext cx="3124440" cy="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 flipV="1">
            <a:off x="1066680" y="4038120"/>
            <a:ext cx="2210040" cy="68580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1" descr="JJThomson"/>
          <p:cNvPicPr/>
          <p:nvPr/>
        </p:nvPicPr>
        <p:blipFill>
          <a:blip r:embed="rId7"/>
          <a:stretch/>
        </p:blipFill>
        <p:spPr>
          <a:xfrm>
            <a:off x="3429000" y="2133720"/>
            <a:ext cx="2133720" cy="184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3508200" y="358128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 flipV="1">
            <a:off x="5029200" y="2362320"/>
            <a:ext cx="1676520" cy="304560"/>
          </a:xfrm>
          <a:prstGeom prst="line">
            <a:avLst/>
          </a:prstGeom>
          <a:ln w="2844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ory vs Law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ry – well tested explanation for a broad set of observ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CHAN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– concise statement that summarizes the results of many observations and experie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d upon set of units and measurements- used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… (which country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base units used by chemist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ogram (ma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er (leng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vin (tempera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 (amou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fixes to the SI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 with ones we use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ga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million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1000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k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thousand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enth of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i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undred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i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thousand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0113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million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6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0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n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billion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9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0000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o </a:t>
            </a:r>
            <a:r>
              <a:rPr b="0" lang="en-US" sz="2400" spc="-1" strike="noStrike">
                <a:solidFill>
                  <a:srgbClr val="ff0113"/>
                </a:solidFill>
                <a:latin typeface="Arial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rillionth 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1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actor of 0.000000000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others as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4:22:23Z</dcterms:created>
  <dc:creator>Lgotlib</dc:creator>
  <dc:description/>
  <dc:language>en-US</dc:language>
  <cp:lastModifiedBy>asalla</cp:lastModifiedBy>
  <dcterms:modified xsi:type="dcterms:W3CDTF">2009-09-07T23:50:09Z</dcterms:modified>
  <cp:revision>68</cp:revision>
  <dc:subject/>
  <dc:title>Branches of Chemistry</dc:title>
</cp:coreProperties>
</file>